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7EC8-D76F-456F-A0B5-C23DA64B6D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0F79-CC7F-47FB-9F87-F3A30AF5FA03}" type="slidenum">
              <a:rPr b="0" lang="cs-CZ" sz="1200" spc="-1" strike="noStrike">
                <a:solidFill>
                  <a:srgbClr val="eaeae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EFCD-9445-4B8A-8F66-4FA714BE6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6FF1-B58D-4A3A-954F-C7AEC48B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B783-A04F-4660-803A-76DC8476B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6FF9-A388-48A3-96C9-7B4AC2A89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08757-EAF9-40C9-A1ED-D108BB1B8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9C94-B89D-4330-B2AE-53B67572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0DA1-5EF8-461D-903E-536691F1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9BF3B-52EF-4285-A5B1-9226EC40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87464-9D09-4F54-9AEE-ACF9D204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011F-00B3-4074-A3A9-4544B693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1C06-258B-4194-B653-2D877BF6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A668-0F4D-489F-88BA-8BA478F7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05A5-A5BF-4B26-9DAE-3B42B10F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3CBC-26EE-40A4-8945-D62560A9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1CC9-CA0E-4C01-9CEB-81F286F0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6B1F0-3D16-46E0-9599-48E1F032F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F748C-DC50-4864-81A6-569AE9CED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2264-FF92-4BF1-99E2-2EAE76F3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9D7A-DAE0-4594-B53A-9CE2B98A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A610-B9E0-4ED3-B59E-0D6938ED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4931-534F-43FB-B71F-0CFA904C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9577-6F47-4851-934D-96EC2B2A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696D-B34D-453B-B98E-B149B4F6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C632-0093-4BAB-83CB-A93E560C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B8C6-77BC-4DA1-9939-8E5AE1BFCAE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46E9-CE20-4FC7-8EB8-60A23BAA1FD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sf-dentlab.cz/vysledky-rekonstrukce.php" TargetMode="External"/><Relationship Id="rId2" Type="http://schemas.openxmlformats.org/officeDocument/2006/relationships/hyperlink" Target="http://www.fsf-dentlab.cz/vysledky-rekonstrukce.php" TargetMode="External"/><Relationship Id="rId3" Type="http://schemas.openxmlformats.org/officeDocument/2006/relationships/hyperlink" Target="http://www.fsf-dentlab.cz/vysledky-rekonstrukce.php" TargetMode="External"/><Relationship Id="rId4" Type="http://schemas.openxmlformats.org/officeDocument/2006/relationships/hyperlink" Target="http://www.fsf-dentlab.cz/vysledky-rekonstrukce.php" TargetMode="External"/><Relationship Id="rId5" Type="http://schemas.openxmlformats.org/officeDocument/2006/relationships/hyperlink" Target="http://www.fsf-dentlab.cz/vysledky-rekonstrukce.php" TargetMode="External"/><Relationship Id="rId6" Type="http://schemas.openxmlformats.org/officeDocument/2006/relationships/hyperlink" Target="http://www.fsf-dentlab.cz/vysledky-rekonstrukce.php" TargetMode="External"/><Relationship Id="rId7" Type="http://schemas.openxmlformats.org/officeDocument/2006/relationships/hyperlink" Target="http://www.fsf-dentlab.cz/vysledky-rekonstrukce.php" TargetMode="External"/><Relationship Id="rId8" Type="http://schemas.openxmlformats.org/officeDocument/2006/relationships/hyperlink" Target="http://www.fsf-dentlab.cz/vysledky-rekonstrukce.php" TargetMode="External"/><Relationship Id="rId9" Type="http://schemas.openxmlformats.org/officeDocument/2006/relationships/hyperlink" Target="http://www.6monthsmiles.cz/six-month-smiles/je-6-mesicu-usmev-system.html" TargetMode="External"/><Relationship Id="rId10" Type="http://schemas.openxmlformats.org/officeDocument/2006/relationships/hyperlink" Target="http://www.6monthsmiles.cz/six-month-smiles/je-6-mesicu-usmev-system.html" TargetMode="External"/><Relationship Id="rId11" Type="http://schemas.openxmlformats.org/officeDocument/2006/relationships/hyperlink" Target="http://www.rsivak.com/www/izuby.cz/zubni-nah.rady/snimatelna-zubni-nahrada-v-kostce---ii-cast/" TargetMode="External"/><Relationship Id="rId12" Type="http://schemas.openxmlformats.org/officeDocument/2006/relationships/hyperlink" Target="http://www.rsivak.com/www/izuby.cz/zubni-nah.rady/snimatelna-zubni-nahrada-v-kostce---ii-cast/" TargetMode="Externa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360" y="2133720"/>
            <a:ext cx="842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Název školy: Střední zdravotnická škola a vyšší odborná škola zdravotnická Karlovy Var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Číslo projektu: CZ.1.07/1.5.00/34.0953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Vzdělávací materiál: Zkouška modelů náhrady v ústech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Šablona III/2 Inovace a zkvalitnění výuky prostřednictvím IC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Název materiálu: VY_32_INOVACE_ZSP.4.14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atum tvorby: 12. 11. 2013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Vyučovací předmět, ročník, obor: ZSP, 4. ročník, Asistent zubního technik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utor: Mgr. Martina Nová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notace: Vzdělávací materiál využívá ICT při výuce a tím inovuje výuku praktického vyučování, zároveň motivuje a aktivuje žáky.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 Seznamuje žáky s ordinační fází zhotovení částečné snímatelné náhrady – zkouška voskových modelů v ústech pacienta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755640" y="277920"/>
            <a:ext cx="748980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4000" y="1341000"/>
            <a:ext cx="7559640" cy="3095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Verdana"/>
              </a:rPr>
              <a:t>Zkouška modelů náhrady v ústech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79520"/>
            <a:ext cx="822960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       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Zkouška náhrady </a:t>
            </a:r>
            <a:br>
              <a:rPr sz="4400"/>
            </a:b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v ústech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ostavené a vymodelované náhrady se zkoušejí v dutině ústní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Kontroluje se postavení zubů ve vertikální a horizontální rovině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osuzuje se průběh okluzní rovin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Zhodnotí se středová linie zubů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vzhledem k celkové symetrii obličej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2" descr="C:\Users\Chalupna\Desktop\thumb_vysledky-rekonstrukce_31.jpg"/>
          <p:cNvPicPr/>
          <p:nvPr/>
        </p:nvPicPr>
        <p:blipFill>
          <a:blip r:embed="rId1"/>
          <a:stretch/>
        </p:blipFill>
        <p:spPr>
          <a:xfrm>
            <a:off x="395280" y="1052640"/>
            <a:ext cx="1679760" cy="1260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102760" y="148284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Obr. 1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516720" y="1125360"/>
            <a:ext cx="1655640" cy="12132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8296200" y="1557360"/>
            <a:ext cx="75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Obr. 2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Zkouška náhrady v ústech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osuzuje se zda jsou řezáky viditelné zpředu a špičáky z pohledu zpředu a z boku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élka hrany středního špičáku a řezáku je stejná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osoudí se  průběh roviny okluze v laterálním úseku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omocí artikulačního papíru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 posoudí četnost a kvalita okluzních kontaktů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948360" y="4797360"/>
            <a:ext cx="1871640" cy="12207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135120" y="601992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Obr. 3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170560" y="4502160"/>
            <a:ext cx="65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Obr.3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Estetika náhrad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Zaměřuje se na tvar a velikost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Barvu a postavení zubů hodnotí nejenom ošetřující,ale i pacien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Zkouška modelu náhrady ve vosku musí probíhat rychle, aby nedošlo ke změknutí vosku a tak k poškození předtvaru budoucí zubní náhrad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755280" y="333000"/>
            <a:ext cx="747396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 lidé se snímatelnou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áhradou mohou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vypadat skvěl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26920" y="3141720"/>
            <a:ext cx="5327640" cy="29988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340000" y="2421000"/>
            <a:ext cx="79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Obr. 4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508720" y="549360"/>
            <a:ext cx="3449520" cy="2254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651640" y="62064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r. 5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Zdroje obrázků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60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eaeaea"/>
                </a:solidFill>
                <a:latin typeface="Times New Roman"/>
              </a:rPr>
              <a:t>Obr. 1:</a:t>
            </a: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 FSF Dentální laboratoř s.r.o. </a:t>
            </a:r>
            <a:r>
              <a:rPr b="0" i="1" lang="cs-CZ" sz="1400" spc="-1" strike="noStrike">
                <a:solidFill>
                  <a:srgbClr val="eaeaea"/>
                </a:solidFill>
                <a:latin typeface="Times New Roman"/>
              </a:rPr>
              <a:t>Zásuvné spoje Ceka-Revax </a:t>
            </a: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[online]. [cit. 4.10.2013]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Dostupné z www:&lt;</a:t>
            </a:r>
            <a:r>
              <a:rPr b="0" lang="cs-CZ" sz="1400" spc="-1" strike="noStrike" u="sng">
                <a:solidFill>
                  <a:srgbClr val="eec85e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cs-CZ" sz="1400" spc="-1" strike="noStrike" u="sng">
                <a:solidFill>
                  <a:srgbClr val="eec85e"/>
                </a:solidFill>
                <a:uFillTx/>
                <a:latin typeface="Times New Roman"/>
                <a:hlinkClick r:id="rId2"/>
              </a:rPr>
              <a:t>fsf</a:t>
            </a:r>
            <a:r>
              <a:rPr b="0" lang="cs-CZ" sz="1400" spc="-1" strike="noStrike" u="sng">
                <a:solidFill>
                  <a:srgbClr val="eec85e"/>
                </a:solidFill>
                <a:uFillTx/>
                <a:latin typeface="Times New Roman"/>
                <a:hlinkClick r:id="rId3"/>
              </a:rPr>
              <a:t>-</a:t>
            </a:r>
            <a:r>
              <a:rPr b="0" lang="cs-CZ" sz="1400" spc="-1" strike="noStrike" u="sng">
                <a:solidFill>
                  <a:srgbClr val="eec85e"/>
                </a:solidFill>
                <a:uFillTx/>
                <a:latin typeface="Times New Roman"/>
                <a:hlinkClick r:id="rId4"/>
              </a:rPr>
              <a:t>dentlab.cz</a:t>
            </a:r>
            <a:r>
              <a:rPr b="0" lang="cs-CZ" sz="1400" spc="-1" strike="noStrike" u="sng">
                <a:solidFill>
                  <a:srgbClr val="eec85e"/>
                </a:solidFill>
                <a:uFillTx/>
                <a:latin typeface="Times New Roman"/>
                <a:hlinkClick r:id="rId5"/>
              </a:rPr>
              <a:t>/</a:t>
            </a:r>
            <a:r>
              <a:rPr b="0" lang="cs-CZ" sz="1400" spc="-1" strike="noStrike" u="sng">
                <a:solidFill>
                  <a:srgbClr val="eec85e"/>
                </a:solidFill>
                <a:uFillTx/>
                <a:latin typeface="Times New Roman"/>
                <a:hlinkClick r:id="rId6"/>
              </a:rPr>
              <a:t>vysledky</a:t>
            </a:r>
            <a:r>
              <a:rPr b="0" lang="cs-CZ" sz="1400" spc="-1" strike="noStrike" u="sng">
                <a:solidFill>
                  <a:srgbClr val="eec85e"/>
                </a:solidFill>
                <a:uFillTx/>
                <a:latin typeface="Times New Roman"/>
                <a:hlinkClick r:id="rId7"/>
              </a:rPr>
              <a:t>-rekonstrukce.</a:t>
            </a:r>
            <a:r>
              <a:rPr b="0" lang="cs-CZ" sz="1400" spc="-1" strike="noStrike" u="sng">
                <a:solidFill>
                  <a:srgbClr val="eec85e"/>
                </a:solidFill>
                <a:uFillTx/>
                <a:latin typeface="Times New Roman"/>
                <a:hlinkClick r:id="rId8"/>
              </a:rPr>
              <a:t>php</a:t>
            </a: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gt;autor neuveden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eaeaea"/>
                </a:solidFill>
                <a:latin typeface="Times New Roman"/>
              </a:rPr>
              <a:t>Obr. 2:</a:t>
            </a: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 Fotografie zhotovila, není-li uvedeno jinak, Mgr. Hana Chalupná.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eaeaea"/>
                </a:solidFill>
                <a:latin typeface="Times New Roman"/>
              </a:rPr>
              <a:t>Obr. 3:</a:t>
            </a: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 DOSTÁLOVÁ, T. </a:t>
            </a:r>
            <a:r>
              <a:rPr b="0" i="1" lang="cs-CZ" sz="1400" spc="-1" strike="noStrike">
                <a:solidFill>
                  <a:srgbClr val="eaeaea"/>
                </a:solidFill>
                <a:latin typeface="Times New Roman"/>
              </a:rPr>
              <a:t>Fixní a snímatelná protetika</a:t>
            </a: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. 1. vyd. str. 129. Praha: Grada, 2004.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ISBN 80-247-0655-5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eaeaea"/>
                </a:solidFill>
                <a:latin typeface="Times New Roman"/>
              </a:rPr>
              <a:t>Obr. 4:</a:t>
            </a: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 Six month smiles [online]. [cit. 4.10.2013]. Dostupné z www:&lt; </a:t>
            </a:r>
            <a:r>
              <a:rPr b="0" lang="cs-CZ" sz="1400" spc="-1" strike="noStrike" u="sng">
                <a:solidFill>
                  <a:srgbClr val="eec85e"/>
                </a:solidFill>
                <a:uFillTx/>
                <a:latin typeface="Times New Roman"/>
                <a:hlinkClick r:id="rId9"/>
              </a:rPr>
              <a:t>http://www.6monthsmiles.cz/six-month-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eec85e"/>
                </a:solidFill>
                <a:uFillTx/>
                <a:latin typeface="Times New Roman"/>
                <a:hlinkClick r:id="rId10"/>
              </a:rPr>
              <a:t>smiles/je-6-mesicu-usmev-system.html</a:t>
            </a: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gt;autor neuveden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eaeaea"/>
                </a:solidFill>
                <a:latin typeface="Times New Roman"/>
              </a:rPr>
              <a:t>Obr.5:</a:t>
            </a: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 I-zuby [online].4.12.2008. [cit. 4.10.2013]. Dostupné z www:&lt; </a:t>
            </a:r>
            <a:r>
              <a:rPr b="0" lang="cs-CZ" sz="1400" spc="-1" strike="noStrike" u="sng">
                <a:solidFill>
                  <a:srgbClr val="eec85e"/>
                </a:solidFill>
                <a:uFillTx/>
                <a:latin typeface="Times New Roman"/>
                <a:hlinkClick r:id="rId11"/>
              </a:rPr>
              <a:t>http://www.rsivak.com/www/izuby.cz/zubni-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eec85e"/>
                </a:solidFill>
                <a:uFillTx/>
                <a:latin typeface="Times New Roman"/>
                <a:hlinkClick r:id="rId12"/>
              </a:rPr>
              <a:t>nah.rady/snimatelna-zubni-nahrada-v-kostce---ii-cast/</a:t>
            </a: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 &gt;autor redakce časopisů Stoma Team a Stoma Tip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aeaea"/>
                </a:solidFill>
                <a:latin typeface="Arial"/>
              </a:rPr>
              <a:t>Zdroj textu: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aeaea"/>
                </a:solidFill>
                <a:latin typeface="Verdana"/>
              </a:rPr>
              <a:t>DOSTÁLOVÁ, T. </a:t>
            </a:r>
            <a:r>
              <a:rPr b="0" i="1" lang="cs-CZ" sz="1600" spc="-1" strike="noStrike">
                <a:solidFill>
                  <a:srgbClr val="eaeaea"/>
                </a:solidFill>
                <a:latin typeface="Verdana"/>
              </a:rPr>
              <a:t>Fixní a snímatelná protetika</a:t>
            </a:r>
            <a:r>
              <a:rPr b="0" lang="cs-CZ" sz="1600" spc="-1" strike="noStrike">
                <a:solidFill>
                  <a:srgbClr val="eaeaea"/>
                </a:solidFill>
                <a:latin typeface="Verdana"/>
              </a:rPr>
              <a:t>. 1. vyd. Praha: Grada, 2004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aeaea"/>
                </a:solidFill>
                <a:latin typeface="Verdana"/>
              </a:rPr>
              <a:t>ISBN 80-247-0655-5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8T10:46:23Z</dcterms:created>
  <dc:creator>Hana Chalupná</dc:creator>
  <dc:description/>
  <dc:language>en-US</dc:language>
  <cp:lastModifiedBy>Chalupna</cp:lastModifiedBy>
  <dcterms:modified xsi:type="dcterms:W3CDTF">2013-12-03T19:05:17Z</dcterms:modified>
  <cp:revision>58</cp:revision>
  <dc:subject/>
  <dc:title>Snímek 1</dc:title>
</cp:coreProperties>
</file>